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8B9-5535-41F4-9B0F-3060F199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BA6-AF5F-4D68-8CCB-DF0BCD0C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82B-A1F0-4209-BEB1-1187079C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9F4-D494-4276-9A1F-C271FC00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3C70-5E68-4952-82CB-92BC807C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7631-7F4F-429B-99C8-77AAAD5F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5E05-778C-40F8-98C4-CE6C19CA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3DB5-D786-4BBB-98C0-4820F95B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576A-7303-4929-A715-C52E4E35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B165-7ACF-4D96-8D36-E5DDCE95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4DED-6938-4F39-A36C-414F931A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8AB-14C9-4B97-B72A-D6A79D7C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E52A-45C2-4EED-883E-7E11EFE5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D851-9E40-4DFC-BD5E-6DEC09A7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F5E0-D638-423A-B166-17633A49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A0C5-C30C-4B2A-A7DA-603DE8D6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B408-9BBB-47DF-A827-8DA26D2A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BBA-A4D0-4E71-96C2-ACD7662D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EC5-4C7A-427A-9338-18FF720B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17E-E813-45F4-B94C-3D9F39A1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4AB-5A54-42FF-8C74-7D144B9B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737-877E-4604-A8A6-EF34A008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0FB8-EE5A-4ADB-A575-21D6CFF5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15D-B9B3-421F-842B-13B933F6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1DCF-6D35-437B-B45A-D6826A7C88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B838-8BA8-40FF-B313-F622742011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1571400"/>
            <a:ext cx="628668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4857840"/>
            <a:ext cx="3857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с.Павлов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лтайский к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353880" y="-55440"/>
            <a:ext cx="7656480" cy="106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1356840"/>
            <a:ext cx="6943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quia.com/files/quia/users/matmet/Graphics/Fancy-geometry-learn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39:28Z</dcterms:created>
  <dc:creator>Comp</dc:creator>
  <dc:description/>
  <dc:language>en-US</dc:language>
  <cp:lastModifiedBy>Comp</cp:lastModifiedBy>
  <dcterms:modified xsi:type="dcterms:W3CDTF">2011-07-28T11:15:35Z</dcterms:modified>
  <cp:revision>5</cp:revision>
  <dc:subject/>
  <dc:title>Слайд 1</dc:title>
</cp:coreProperties>
</file>