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CD6-498F-43FD-A2FF-2B738545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081-3883-478C-B413-A6A9CA51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70F-D2C1-4729-B676-D0978A1A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CF0-104B-4C25-B49F-3A1C241D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13A9-3F52-4040-B662-2047E852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DE0F-4C39-4032-AEB1-F14726F5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B274-3ED2-4289-A875-15A131FD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784B-0490-41D3-92A4-D67316B2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70CF-F0CC-4234-8967-8710D46D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2663-1414-4F16-B1AD-64495CBC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3B29-AEB4-4369-B5F4-EAD18AF0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A33-0802-4C41-AF28-E6A4183D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AFA8-331B-4402-9181-EA5D5EAA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61A7-2B0E-4739-8F8D-0778B26B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67B8-70CC-4F3D-BEC8-23D7E19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F667-EA7C-4722-9002-22602410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BE36-6252-40D1-9781-3894DD76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AF9-28BA-42E9-AD3B-6A287A13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0D8-2452-4214-BA59-76397908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9BE-47AF-4E99-903A-97874314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FDC-C81C-43F2-9440-335F1D40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846-8D3A-4B91-AEF3-507F8FAC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678-E1BB-49E5-93C7-A64EE18C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0A7-7488-457E-831B-9A8DDC7A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0C0A-9072-47DE-9323-E8D7F5C60D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ECA1-CAD5-4583-AF35-69B5E8BFE2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714320"/>
            <a:ext cx="450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 rot="222000">
            <a:off x="2207520" y="3357000"/>
            <a:ext cx="45003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268280" y="225360"/>
            <a:ext cx="7534440" cy="99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85600" y="1428840"/>
            <a:ext cx="6900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tineydgers.at.ua/sova3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endem.ru/uploads/posts/2010-09/1285569710_osennie-listy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burla.su/uploads/posts/2010-05/1274360367_poslednii_zvonok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Мои документы\Мои рисунки\images сова.jpeg"/>
          <p:cNvPicPr/>
          <p:nvPr/>
        </p:nvPicPr>
        <p:blipFill>
          <a:blip r:embed="rId2"/>
          <a:stretch/>
        </p:blipFill>
        <p:spPr>
          <a:xfrm>
            <a:off x="642960" y="12859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571680" y="2357280"/>
            <a:ext cx="1143000" cy="744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4"/>
          <a:stretch/>
        </p:blipFill>
        <p:spPr>
          <a:xfrm>
            <a:off x="428760" y="3571920"/>
            <a:ext cx="1214280" cy="9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5"/>
          <a:stretch/>
        </p:blipFill>
        <p:spPr>
          <a:xfrm>
            <a:off x="642960" y="5072040"/>
            <a:ext cx="9288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6:53:57Z</dcterms:created>
  <dc:creator>Comp</dc:creator>
  <dc:description/>
  <dc:language>en-US</dc:language>
  <cp:lastModifiedBy>Comp</cp:lastModifiedBy>
  <dcterms:modified xsi:type="dcterms:W3CDTF">2011-07-29T17:01:45Z</dcterms:modified>
  <cp:revision>2</cp:revision>
  <dc:subject/>
  <dc:title>Слайд 1</dc:title>
</cp:coreProperties>
</file>